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011-3910-47B6-AB60-5F1C7D20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567-986E-40C5-A91E-2EBC12D0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D1F-968E-4D01-AD9B-5F55A68A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5A0-AB18-4C00-B7C6-0502506D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31A-2881-4E14-843C-7107FD90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D29-84E2-4212-A20A-C04E826A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37F-FEE0-4E87-9CC3-36D02380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837-7D0D-4C19-B1A2-37C5D269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327-616F-4358-AC4D-08160B75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4F3-58C8-4989-A7FC-2A6DE8F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774-D452-4EF5-A8F6-D91D3FAC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EBA-8E8F-4140-928A-FA210DE6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513B-D50D-47B5-82D8-369BDDBE7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2433960" y="53578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標準関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2192760" y="39384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元エッジ検出ノイズ低減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D edge-detected noise reduction: 3D-ED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モソフトウェ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905040" y="5867280"/>
            <a:ext cx="74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本ソフトウェアは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hikaw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らによって開発され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元エッジ検出ノイズ低減処理であ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-EDN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実装したデモソフトウェアです．高解像度関数画像を利用して，そこからノイズだけを取り去り，図のようにシャープかつクリーンな画像を出力し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2" descr=""/>
          <p:cNvPicPr/>
          <p:nvPr/>
        </p:nvPicPr>
        <p:blipFill>
          <a:blip r:embed="rId1"/>
          <a:stretch/>
        </p:blipFill>
        <p:spPr>
          <a:xfrm>
            <a:off x="905040" y="1596960"/>
            <a:ext cx="7472160" cy="3759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5655960" y="5380200"/>
            <a:ext cx="175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高解像度関数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D-ED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4" descr=""/>
          <p:cNvPicPr/>
          <p:nvPr/>
        </p:nvPicPr>
        <p:blipFill>
          <a:blip r:embed="rId1"/>
          <a:srcRect l="6668" t="0" r="21037" b="0"/>
          <a:stretch/>
        </p:blipFill>
        <p:spPr>
          <a:xfrm>
            <a:off x="838080" y="1371600"/>
            <a:ext cx="3505320" cy="4324320"/>
          </a:xfrm>
          <a:prstGeom prst="rect">
            <a:avLst/>
          </a:prstGeom>
          <a:ln w="0">
            <a:noFill/>
          </a:ln>
        </p:spPr>
      </p:pic>
      <p:pic>
        <p:nvPicPr>
          <p:cNvPr id="47" name="図 5" descr=""/>
          <p:cNvPicPr/>
          <p:nvPr/>
        </p:nvPicPr>
        <p:blipFill>
          <a:blip r:embed="rId2"/>
          <a:srcRect l="10940" t="0" r="14062" b="0"/>
          <a:stretch/>
        </p:blipFill>
        <p:spPr>
          <a:xfrm>
            <a:off x="4419720" y="1386000"/>
            <a:ext cx="3657600" cy="432432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6"/>
          <p:cNvSpPr/>
          <p:nvPr/>
        </p:nvSpPr>
        <p:spPr>
          <a:xfrm>
            <a:off x="953640" y="1384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標準関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7"/>
          <p:cNvSpPr/>
          <p:nvPr/>
        </p:nvSpPr>
        <p:spPr>
          <a:xfrm>
            <a:off x="828360" y="278136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D-ED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8"/>
          <p:cNvSpPr/>
          <p:nvPr/>
        </p:nvSpPr>
        <p:spPr>
          <a:xfrm>
            <a:off x="911520" y="4238640"/>
            <a:ext cx="8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某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再構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3504960" y="83808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冠動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像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0"/>
          <p:cNvSpPr/>
          <p:nvPr/>
        </p:nvSpPr>
        <p:spPr>
          <a:xfrm>
            <a:off x="1851480" y="5695920"/>
            <a:ext cx="49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-EDN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圧倒的なシャープさと低ノイズで血管内腔の状況を明らかにし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図 1" descr=""/>
          <p:cNvPicPr/>
          <p:nvPr/>
        </p:nvPicPr>
        <p:blipFill>
          <a:blip r:embed="rId1"/>
          <a:stretch/>
        </p:blipFill>
        <p:spPr>
          <a:xfrm>
            <a:off x="1335240" y="622440"/>
            <a:ext cx="474804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Line 8"/>
          <p:cNvSpPr/>
          <p:nvPr/>
        </p:nvSpPr>
        <p:spPr>
          <a:xfrm flipH="1">
            <a:off x="5943240" y="838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737760" y="685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画像読み込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5943240" y="11430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859800" y="914400"/>
            <a:ext cx="13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ウィンドウ選定変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クリップボードへの画像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5943240" y="144792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707160" y="12952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画像の開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753240" y="152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画像のソート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943240" y="1676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H="1">
            <a:off x="5866920" y="2057400"/>
            <a:ext cx="685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670800" y="1859040"/>
            <a:ext cx="124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シリーズソー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-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H="1">
            <a:off x="5866920" y="2286000"/>
            <a:ext cx="685800" cy="6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740640" y="2087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ソートオーダ変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5943240" y="2514600"/>
            <a:ext cx="6094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6725160" y="236232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形式データ読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 flipH="1">
            <a:off x="5866920" y="300204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6867360" y="317664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作成の開始＆終了番号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 flipH="1">
            <a:off x="5903640" y="3382920"/>
            <a:ext cx="6490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638040" y="279576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イズ変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6852960" y="34290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画像測定ウィンドウの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6608520" y="41623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処理画像の保存処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9"/>
          <p:cNvSpPr/>
          <p:nvPr/>
        </p:nvSpPr>
        <p:spPr>
          <a:xfrm flipH="1">
            <a:off x="5295600" y="4398840"/>
            <a:ext cx="1204920" cy="12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0"/>
          <p:cNvSpPr/>
          <p:nvPr/>
        </p:nvSpPr>
        <p:spPr>
          <a:xfrm>
            <a:off x="6636600" y="45021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画像の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6660360" y="534348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-EDN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2"/>
          <p:cNvSpPr/>
          <p:nvPr/>
        </p:nvSpPr>
        <p:spPr>
          <a:xfrm flipH="1">
            <a:off x="5943240" y="4673520"/>
            <a:ext cx="60948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3"/>
          <p:cNvSpPr/>
          <p:nvPr/>
        </p:nvSpPr>
        <p:spPr>
          <a:xfrm flipH="1">
            <a:off x="5969160" y="5440320"/>
            <a:ext cx="66024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6"/>
          <p:cNvSpPr/>
          <p:nvPr/>
        </p:nvSpPr>
        <p:spPr>
          <a:xfrm flipH="1" flipV="1">
            <a:off x="2306160" y="545760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7"/>
          <p:cNvSpPr/>
          <p:nvPr/>
        </p:nvSpPr>
        <p:spPr>
          <a:xfrm flipH="1" flipV="1">
            <a:off x="2230560" y="576216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8"/>
          <p:cNvSpPr/>
          <p:nvPr/>
        </p:nvSpPr>
        <p:spPr>
          <a:xfrm>
            <a:off x="2867040" y="583884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-EDN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ラメータの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2803680" y="6067440"/>
            <a:ext cx="17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-EDN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ラメータの呼出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2382840" y="5381640"/>
            <a:ext cx="259092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5149800" y="601668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3D-EDNR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パラメータ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3"/>
          <p:cNvSpPr/>
          <p:nvPr/>
        </p:nvSpPr>
        <p:spPr>
          <a:xfrm flipH="1" flipV="1">
            <a:off x="4672080" y="5770080"/>
            <a:ext cx="38088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 flipV="1">
            <a:off x="1536840" y="56721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5"/>
          <p:cNvSpPr/>
          <p:nvPr/>
        </p:nvSpPr>
        <p:spPr>
          <a:xfrm>
            <a:off x="1296000" y="6053040"/>
            <a:ext cx="107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ウィンドウ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 flipH="1">
            <a:off x="6021360" y="5072040"/>
            <a:ext cx="49680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6671880" y="4881600"/>
            <a:ext cx="148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1&amp;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決めるため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9T07:02:11Z</dcterms:created>
  <dc:creator>iiik7</dc:creator>
  <dc:description/>
  <dc:language>en-US</dc:language>
  <cp:lastModifiedBy>Administrator</cp:lastModifiedBy>
  <dcterms:modified xsi:type="dcterms:W3CDTF">2025-03-03T04:13:5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